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625-EB3A-4415-A5B8-607FE779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E3B-E6BA-4282-8475-19656418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51D-FFE5-4363-9C4B-23D71C90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863-3AEA-4E33-BB63-32D08394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F59A-A360-4B8A-BF73-8F3BC10A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7D82-3EDE-462C-85BA-D8187D97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3C70-BA48-4FFA-AE00-E678130F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2FFB-737D-413A-97E6-C1AAA8A8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0E33-5206-4426-9268-82AF8509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65FF-5E8E-4B9A-B900-58ACFCB6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E9D4-BDD1-46EB-84B8-7E99CBA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EBF-21F5-46AD-BEFF-11FE1CC8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CC8D-692C-454C-BE1D-E6571E6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A4F3-476E-4DA3-B8C0-BC0D3E13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0D3F-15D4-4632-B482-7DC915DE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BD9F-2DE5-421C-88C4-0C5D6B9F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4BE3-B109-4C59-9234-7EF470D2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89E-FCAB-4C32-8807-BF3D3AEC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D8B-6F18-435F-A2BA-294048B1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093-E75F-4373-B16E-A841E331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E3A-3A7B-4A6F-A09E-D8A820DB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D2B-27CD-471E-A28D-C482803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84F-F15E-4B4D-8B9C-E658E02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8E5-105E-4EBA-9671-CC914CC4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908-19D6-42A8-82F4-55A7DEEA805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B5D1-43C3-4B6F-9A9D-52043B11D92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../Eigene%20Webs/Java-Physik/ph11d/lorentzkraft.htm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../Eigene%20Webs/Java-Physik/ph11d/mfstab.htm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../Eigene%20Webs/Java-Physik/ph11d/mfleiter.htm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Das magnetische Fel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rstellung von Magnetfeldern durch Feldlin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Kraftwirkung zwischen Magnet und Lei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m den stromdurchflossenen Leiter bildet sich ein Magnetf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s kommt zu Wechselwirkungen mit dem Magnetfeld eines anderen Magneten (z.B. Dauermagne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267080"/>
            <a:ext cx="23860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Aufgab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Wie verhält sich nun ein Magnet-Feldlinienbild von 2 Magnete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3962520"/>
            <a:ext cx="122400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962520"/>
            <a:ext cx="2519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52800" y="3962520"/>
            <a:ext cx="129528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95720" y="3962520"/>
            <a:ext cx="2519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19720" y="3962520"/>
            <a:ext cx="129564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95720" y="3962520"/>
            <a:ext cx="122400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9360" y="3314880"/>
            <a:ext cx="2232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ffff"/>
                </a:solidFill>
                <a:uFillTx/>
                <a:latin typeface="Garamond"/>
              </a:rPr>
              <a:t>Variant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79360" y="4033800"/>
            <a:ext cx="576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1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0080" y="5330880"/>
            <a:ext cx="2519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0080" y="5330880"/>
            <a:ext cx="129564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5720" y="5330880"/>
            <a:ext cx="122400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68800" y="5330880"/>
            <a:ext cx="2519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92800" y="5330880"/>
            <a:ext cx="129528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68800" y="5330880"/>
            <a:ext cx="122400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79360" y="5402160"/>
            <a:ext cx="576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2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4033800"/>
            <a:ext cx="1152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68800" y="4033800"/>
            <a:ext cx="115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95720" y="5402160"/>
            <a:ext cx="1152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68800" y="5475240"/>
            <a:ext cx="115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2800" y="4033800"/>
            <a:ext cx="122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92800" y="4033800"/>
            <a:ext cx="122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0080" y="5402160"/>
            <a:ext cx="122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2800" y="5475240"/>
            <a:ext cx="122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Unterschiedliche Po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zieh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715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Gleiche Po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stoß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57913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Skizzen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eldlinienbilder zwischen Po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315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Magnetfel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Magnetfeld ist ein Raum um Magneten, in dem Kraftwirkungen auftre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 ferromagnetische Stoffe (Eisen, Kobalt, Nick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zieh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 andere Magne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ziehung oder Abstoß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Feldlini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eldlinien sind ein Mod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e existieren nicht in der Realitä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e dienen der Beschreibung des Fel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 Richtung der Kraftwirkungen wird verdeutlic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Feldlinien eines Stabmagnet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Magnetnadel richtet sich im Feld des Stabmagneten a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Feldlinien beschreiben die Richtung der Kraftwir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4191120"/>
            <a:ext cx="23860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Ausrichten von Magnetnadeln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 der Umgebung 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bmagneten we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leine Magnetnade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geord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e richten sich 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agnetfeld a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Ausrichten von Magnetnadeln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m Feld eines Hufeisenmagne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51814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Realbil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Feldlinien werden in diesem Foto mit Hilfe von Eisenfeilspänen sichtbar ge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42289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ole des Magnet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n Polen liegen die Feldlinien sehr d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er ist die Stärke des Magnetfeldes am größ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38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Feldlinien eines Leit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Magnetnadel richtet sich im Feld des stromdurchflossenen Leiters a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Feldlinien sind um den Leiter herum angeord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191120"/>
            <a:ext cx="23860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1:44:33Z</dcterms:created>
  <dc:creator>J. Nürnberger</dc:creator>
  <dc:description/>
  <dc:language>en-US</dc:language>
  <cp:lastModifiedBy>J. Nürnberger</cp:lastModifiedBy>
  <dcterms:modified xsi:type="dcterms:W3CDTF">2005-09-25T13:39:21Z</dcterms:modified>
  <cp:revision>23</cp:revision>
  <dc:subject/>
  <dc:title>Das magnetische Feld</dc:title>
</cp:coreProperties>
</file>