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B1D-01F0-44E2-A27B-49A32EBA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E0E-7B3B-4430-A80D-F5BAEF45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C75-C19B-465D-B91B-BB88C416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CE5-01C2-4493-B238-2DBF29DE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F11-8D66-4C4D-81ED-705D4D2A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E99-851F-4F75-8CB4-A044F5E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B02-CBD0-4B3A-BF50-3D3F820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C56-83E3-4695-9090-77A65164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F48-EAAD-4C6C-9DDC-2DCBAF2D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036-7844-4A9F-92C8-60BA2A5B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6AA-24C6-48A8-A20A-A0A8FFC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974-FB57-4DB1-B011-292E2CAF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AFF-FC63-4553-92A1-3C9BC2E2826E}" type="slidenum"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sche Funk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progra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188-0370-4632-B588-FFC8BA4E75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9F0-8265-49BD-A65A-489389BDE4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236232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493-F8E7-4777-8633-15D7042B4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FBD-1BFD-46D2-96B5-072A6DBF1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2362320" y="243828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DF6-AABA-477F-AF66-A83B05901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EA3-325A-48E4-A488-4A3CCDE429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2362320" y="365760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DDD-BF4E-4CA1-8904-BEE4203D3E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226-71BE-4667-87E5-AF22B2D950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2362320" y="175248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E1E-D612-4F03-B79C-7E538A603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F35-CBDC-4652-B0C6-FC6AF5BFEC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2362320" y="426708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E08-1855-44EF-9FDE-09C0E81608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9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2743200"/>
            <a:ext cx="3352680" cy="22096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Menüpunkt „Fenst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n man die Anzei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Graphik-Fen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5562720" y="533520"/>
            <a:ext cx="304560" cy="22096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3200400" cy="236232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neue Da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t zunächst mit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-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28600" y="838080"/>
            <a:ext cx="533520" cy="14479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1523880"/>
            <a:ext cx="586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s Algebra-Fenster von Deriv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1FD-8E6E-4B36-9FC7-0B71D3602D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= x²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+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en Paramet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rd die Funktion   y = x² auf der y-Achse verscho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Scheitel der Funktion liegt im Punkt       S (0 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Funktion hat den kleinsten Funktionswert be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ymmetrieachse ist die y-Ach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Graph ist eine Normalpar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E2F-A1AF-4C3B-94A5-AD4CB91155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e Quadratische Fun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(x + d)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69E-8DB4-47C8-8799-5A66D7AA73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0CD-82A7-45CD-9575-8EA156CA73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228600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473-CB4A-4F9F-BAF4-2880EBF7DE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C2C-59A5-46ED-8D0A-42B995F800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190512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F14-D3E0-45D0-B125-03A7DB6773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461-0766-4269-B4D8-EC78A3767E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274320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9B2-0F31-49E2-BDF6-8629463767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D36-EA76-408D-B948-AAA363CD14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1065960" y="3048120"/>
            <a:ext cx="129564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C7F-4D17-45B0-AC6E-5BF67A04AC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9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27432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ßerdem lassen s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-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k-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kal nebenein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200400" y="533520"/>
            <a:ext cx="2666880" cy="22096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752480"/>
            <a:ext cx="64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s 2-D-Graphikfenster von Deriv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05E-7542-4291-AB36-C4DCA75D4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C91-7A0A-4F92-BEE8-C0501D7B50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580560" y="3048120"/>
            <a:ext cx="129564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AE1-DE19-406B-ACE7-4A1BA8BCCC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= (x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+ 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en Paramet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rd die Funktion   y = x² auf der x-Achse verscho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Scheitel der Funktion liegt im Punkt       S 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Funktion hat die Nullstelle be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ymmetrieachse ist eine Parallele durch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–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ur y-Ach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Graph ist eine Normalpar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764-EF6E-4B4C-954B-B42121674A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e Quadratische Fun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a x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265-D294-486D-9692-45B670C90A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D5D-DA35-4BD8-9448-57685AB65A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36232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F42-45D4-4898-B97F-CB362748A6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1D1-BEC0-465B-BFD8-F75E1741AD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90920" y="18288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6F3-787B-480B-84DF-CE194DF845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105-DC5C-4303-88AB-68BE54C479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10843800">
            <a:off x="2742480" y="182844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145-98E5-47EA-9630-E365D0305A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476880" cy="17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1371600"/>
            <a:ext cx="3733920" cy="2438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chseneinteilung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rdinaten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ässt sich 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Menü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llen / Zeichen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stl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207880" y="531720"/>
            <a:ext cx="2590920" cy="13716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429000"/>
            <a:ext cx="838080" cy="1600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55B-2508-419C-B783-BD09F89A8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A87-3979-4317-A4D7-A63026098A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6143600">
            <a:off x="1981080" y="3733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9D0-4256-42E7-B02A-0838CDBFAA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705-EDE1-49DD-B908-1E5974C980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90920" y="47242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CF1-148E-45E9-9998-F3EAD22053B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682-44A4-4571-A642-FE14FFA068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0843800">
            <a:off x="2666160" y="472356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6CA-5331-45F6-832E-6E52BC0B95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en Paramet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rd Form der Parabel verändert, nicht die 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 a positiv und kleiner als 1, wird die Parabel gestaucht, größer als 1 gestrec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 a negativ öffnet sich die Parabel nach 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Graph i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ine Normalpar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nn a ungleich 1 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085-3648-47FE-B921-DA92D11AF50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57800" y="1752480"/>
            <a:ext cx="3200400" cy="2057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 Eingabez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d der Funktions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eg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chließend „Ent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üc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23880" y="3809880"/>
            <a:ext cx="3733920" cy="2438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484-4A8E-4EBE-B4C4-19B82D3C9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905120" y="1752120"/>
            <a:ext cx="3352680" cy="44960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1752480"/>
            <a:ext cx="3048120" cy="190512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Funktionsgle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cheint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-Fen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CBC-D444-4D7E-8BEF-1F706F643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1523520" y="838080"/>
            <a:ext cx="3505320" cy="19051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2209680"/>
            <a:ext cx="3657600" cy="3200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einem Klick 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k-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ässt sich über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leiste (oder ü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Menü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ügen /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Graph der 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ch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1E7-088C-4821-B766-AE27A6F213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562720" y="2133720"/>
            <a:ext cx="25905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Funktionsgleichu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95480" y="2666880"/>
            <a:ext cx="11336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raph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A88-3760-4143-A03E-23CACE0A32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e Quadratische Fun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x² +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48E-8D5F-4CF5-A3CE-226025E720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16:33:44Z</dcterms:created>
  <dc:creator>J. Nürnberger</dc:creator>
  <dc:description/>
  <dc:language>en-US</dc:language>
  <cp:lastModifiedBy>J. Nürnberger</cp:lastModifiedBy>
  <dcterms:modified xsi:type="dcterms:W3CDTF">2004-10-31T19:14:58Z</dcterms:modified>
  <cp:revision>29</cp:revision>
  <dc:subject/>
  <dc:title>Quadratische Funktionen</dc:title>
</cp:coreProperties>
</file>